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 rot="16200000"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 rot="16200000"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454-FADE-4AB4-A19E-097A80817C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 rot="16200000"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 rot="16200000"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6C74-E136-4507-AE77-9129ECBF161E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7477-FC25-49CA-A728-864E4509572F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30F-AEAD-40C6-9D0C-075ED9114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jbolje dokumentovanim u smislu kardioprotektivnog delovanja su omega 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nti-agregacijski, anti-aritmijski, hipoholetsetol, efek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seful adjunct in hypertrigyceridemia...may be useful in Diabetes! For Pts who have C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F660-951A-468F-98C5-CAAE361B9100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BFF6-3080-4BF4-A2A0-742DC42D6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stoje dve familije polinezasićenih masnih kiselina zastupljenih u hrani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6 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3 masne kiseline. Obe klase polinezasićenih kiselina su u organizmu prekursori odredjenih jedinjenja fiziološkog delovanja - eikozanoida, čiji su efekti u organizmu suprotni.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k eikozanoidi nastali iz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-6 masnih kiselina imaju uticaj na povećanje krvnog pritiska,  povećanje agregacije trombocita i ispoljavanje inflamatornih reakcija, dotle eikozanoidi poreklom iz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-3 masnih kiselina deluju vasodepresorno, smanjuju agregaciju trombocita i ublažavaju  imuni odgovor. Kako obe grupe jedinjenja ispoljavaju značajne efekte ne fiziološke funkcije, od velikog je značaja da uno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-6 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-3 masnih kisleina bude uravnotežen. Idealan odnos unosa ove dve serije masnih kiselina treba da bude 4: 1 (u koris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-6 masnih kisel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majući u vidu mnogobrojne dokaze velikih broja studija o potvrdjenom, promotivnom efekt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-3 masnih kiselina na zdravlje kardiovaskularnog sistema,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 od American Hearth Assotiasion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preporučuje, dva riblja obroka nedeljno (losos, tuna, sardine) za osobe koje nemaju kardiovaskularnih problema.  Predpostavlja se da se na taj način u organizam unese oko 2 g omega-3 masnih kiselina nedeljno. Takođe se preporučuje i upotreba  onih biljnih ulja ( kanola, laneno) koja su bogata ovim kiselinama. Ukoliko se ne konzumiraju riblji obroci preporučuje se svakodnevni unos 3 do 4 g  omega- 3 masnih kiselina biljnog porek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2B94-E7A7-4E68-A004-258A56269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klini;ki deficit u 30 do 50 posto populacije a dovodi se u vezu sa pove;anim moratalitetom od svih uzroka smr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ekuju se reyultati velikih randpomizovsnih stufi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3DC-3975-4314-8787-200E23477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GENERALNO ISHRANA U KOJOJ JE VEĆA ZASTUPLJENOST PROTEINA DOPRINOSI SMANJNJU RIZIKA DISLIPIDEMIJE, VEĆE UČEŠĆE BILJNIH PROTEINA IMA JOŠ SIGNIFIKANTNIJI ZNAČA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D POSEBNOG SU INTERESA PROTEINI SOJE ČIJI SU POVOLJNI EFEKTI DOKUMENTOVANI U BROJNIM STUDIJ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9DC-76D4-4A31-A55A-EE8ABB566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Mogu da redukuju plazma holesterol, usled sličnosti sa holesterolom kompetitivno se apsorbuju u GIT-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component of mitochod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9124-8FEC-4C1A-8569-EA9F0E6E822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3233-8D66-439B-A52B-05A6D0DAA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lemtacija w/3 MK Prevencija komorbiditet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sidacija ma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246F-B6EF-4574-8B5C-565069C7FB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B53D-6474-47AE-9081-D0B556999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 rot="16200000"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ju najznacajnijim biolokim aktivnim jedinjenjima u promociji zdarvlja koze, su omega tri masne kiseline. Njihovo delovanje ipoljavaju u sma njenju inflamacije, a razlog lezi u cinjenici da su prekursori jedinjenja/ eikozanoi manje inflamatornog delovanja. Dijetarnim intervencijama u smislu povecanja unosa omega tri masnih kiselina dolazi do promene sastava celijskih lipida, a posredno I do smanjanja inlam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E7FF-E888-4CE3-87B9-7B385C810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70A-FF57-4B29-B57D-8079CDF90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C0B-D1EE-46F5-9ED8-0618A74B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B84-1F2B-43A1-9C3B-0E14A785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1E9-FECD-4701-B72B-3E91B9D1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148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7392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0904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9148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7392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790-09A4-41D7-B886-4CFEFC88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9D4-9482-40F2-9CF5-5EC68ADF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C5C7-9D6E-4310-9245-B8C3D93D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9110-5746-4A9B-8428-029D5E3E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7D1A-C277-4D7E-A6BC-EC7E9561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0FF2-D396-4081-B708-75CDD1B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00320" y="4960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0BC-D2AB-45AE-969F-9DBF3B8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AF8E-BF1C-42D8-9D69-1B965728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CF3-5C82-4686-9084-0BFA8305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5AE8-758E-47D3-B81E-E2C015E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8F57-C5D1-4668-9081-CA0A0991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C329-D526-4FD7-A636-7A5B600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254-F482-40E4-8354-858ED1B5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9148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7392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0904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09148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7392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7F05-B42C-478D-9C53-2DE6A6C5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8E2-C0C8-4EB2-AAB0-C3B2CF3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F0C-7888-43A0-9C9B-AD025131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B7F-899F-4EC7-86C3-5F67E918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00320" y="4960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701-E13E-4C21-9046-FA0B8ED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EE3-06B7-46CD-8BEB-774D6D8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D96-E116-47A3-A818-2F6844D8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2B1-0398-4DC2-B47B-8359F80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CB2-DC17-43C0-ABE6-400077E009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B33-B00E-4BB4-91D9-58668210A038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k object 16"/>
          <p:cNvSpPr/>
          <p:nvPr/>
        </p:nvSpPr>
        <p:spPr>
          <a:xfrm>
            <a:off x="415800" y="403200"/>
            <a:ext cx="8312400" cy="865080"/>
          </a:xfrm>
          <a:custGeom>
            <a:avLst/>
            <a:gdLst/>
            <a:ahLst/>
            <a:rect l="l" t="t" r="r" b="b"/>
            <a:pathLst>
              <a:path w="9144000" h="979169">
                <a:moveTo>
                  <a:pt x="0" y="0"/>
                </a:moveTo>
                <a:lnTo>
                  <a:pt x="0" y="979169"/>
                </a:lnTo>
                <a:lnTo>
                  <a:pt x="9144000" y="979169"/>
                </a:lnTo>
                <a:lnTo>
                  <a:pt x="9144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566640"/>
            <a:ext cx="532800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61920" y="1851120"/>
            <a:ext cx="7220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968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2080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230480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6416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6416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6416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08240" y="6376680"/>
            <a:ext cx="29275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456840" y="6376680"/>
            <a:ext cx="210348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6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62868A1-6E44-40D6-9D2F-8AE61605D1A9}" type="datetime">
              <a:rPr b="0" lang="en-US" sz="16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82960" y="6376680"/>
            <a:ext cx="210348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sr-Latn-RS" sz="16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7E08EE5-0E2F-4995-9EF2-3160573B94BD}" type="slidenum">
              <a:rPr b="0" lang="sr-Latn-RS" sz="16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 rot="16200000"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5. НЕДЕ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руке за примену додатака исхрани и дијетеских суплемената у оквиру дијетопрофилаксе и у оквиру дијетотерап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утритив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к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бјектив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јектив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оз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учни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аћањ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немогућавај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ано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ес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пхо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анљив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стојц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тималн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ешћ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дац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јететс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ктаци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лементирају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лна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вожђе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тамин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нерал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ано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вољн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незасиће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ме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-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539280" y="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ОЛНА</a:t>
            </a: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 rot="16200000">
            <a:off x="0" y="134136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ребе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лно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лином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удноћи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ну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ритропоез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јк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ету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цент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овољан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л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ли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зан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ативних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од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ључујућ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зик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нтан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бачај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птур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цен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ект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ал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ев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поручен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невн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д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чећ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40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60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порук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титут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дицин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40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л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ли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ес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тификованих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мирниц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леменат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20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обичајеном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раном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ентар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венциј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Д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поручу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лементациј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л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ли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ена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одил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ектом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ал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ев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ец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чећ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удноћ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0"/>
            <a:ext cx="2330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 rot="16200000">
            <a:off x="0" y="1135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10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говор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ве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ће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иместр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брж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тус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може бит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за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времен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ођењ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л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ођењ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раутерини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стој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еране</a:t>
            </a:r>
            <a:r>
              <a:rPr b="0" lang="nn-N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nn-N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nn-N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nn-N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ратоге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очит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снос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з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инол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и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а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вету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ирниц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ли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инол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инол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ијен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емља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дак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их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ативних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екат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утинс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16200000">
            <a:off x="610920" y="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107640" y="90756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ђут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дат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гулиса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ег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тус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роже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н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тус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расл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овље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ложе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нчев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рачењ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датн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еографск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небљи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вољ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ложенос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нчев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рачењ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за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онатал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окалцем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оплаз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еђ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уб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еомала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уд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аз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з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дукова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усти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олесцент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н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в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еопороз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сниј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ивотн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 rot="16200000"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о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уд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аз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ректн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з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рум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в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еклампс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узев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ликој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итаниј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нев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адај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ч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тегор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ра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бар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лаж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ољној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р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нчев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раци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л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Т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&gt; 3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мн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адем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гетеријана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ољ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ртификован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ле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 rot="16200000">
            <a:off x="0" y="123984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дат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нев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8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и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ћ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уд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аз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з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ск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в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еклампс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време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уптур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цент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шач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лодном трудноћ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адем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дат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невн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вољ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ступљенос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ћ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рћ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 rot="16200000">
            <a:off x="108000" y="1052640"/>
            <a:ext cx="9036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дат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опход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олуме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уде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50%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ају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ећег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иместра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вожђ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интез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ест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лим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ран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орм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сорбуј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есто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раном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нес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опход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вожђе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гл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20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гло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хтев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поручен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невн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27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начајно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обичајених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нос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18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ожђ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е је бит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интез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опходан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надбевањ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ом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цент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звиј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уди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казуј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вожђе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зитиван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ход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с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жин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оворођенчад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временог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врђ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дино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вожђе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стић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лансирано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храно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нев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ро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леко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аје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фом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метај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псорпциј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ругог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ећег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иместр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ветск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дравстве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ганизациј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6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ви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женам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ел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сец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433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 rot="16200000">
            <a:off x="468360" y="84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в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ич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004.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и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а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а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н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јств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дрављ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о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дика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&lt;11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гом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иместр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&lt;10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ћем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иместр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вожђе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56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единачној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з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рферен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сорпциј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н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ериц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тирањ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ем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и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н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кр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рферен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вож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сорпциј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еменат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ратегиј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венциј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ем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штој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лациј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ст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ртифик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аш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иро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прострање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ериц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ЛЦ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 rot="16200000"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ђут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тицај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ормо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ме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зм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глед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сорпц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ра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ебн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жњ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тевај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олесцентн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б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еб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жим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гетеријанц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кто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олерант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вет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огат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ирница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гат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ртификован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ојин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ле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зграст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в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ч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адем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6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25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ра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адеквата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Ј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ативн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оде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отиреоидиз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ворођенчад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же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ефицијен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лиген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ајњој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р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нталн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ретард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тск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дравстве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зациј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нил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2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лио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ир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т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емећа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гнитив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ледиц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л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венира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зир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ој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емљ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ухињс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дир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ПОРУКЕ ЗА ДИЈЕТОПРОФИЛАКСУ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ЕТОТЕРАПИЈ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етеских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етопрофилаксе и дијетотерапиј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орук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чн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авдан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снованан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казим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ечи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успојав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плементи не могу да замене правилну, избалансирану исхрану и лекове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 rot="16200000"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Омега</a:t>
            </a:r>
            <a:r>
              <a:rPr b="1" i="1" lang="sr-Latn-RS" sz="4400" spc="-1" strike="noStrike">
                <a:solidFill>
                  <a:srgbClr val="000000"/>
                </a:solidFill>
                <a:latin typeface="Calibri"/>
              </a:rPr>
              <a:t>-3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масне</a:t>
            </a:r>
            <a:r>
              <a:rPr b="1" i="1" lang="sr-Latn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киселин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иц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анирај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бал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екват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сенцијалн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н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рочит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ме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-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пход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раутери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з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јбољ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јетар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мег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-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них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A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љ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б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ладних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зултат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еђен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линичк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уд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азуј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тица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лементаци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ме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-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н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штрин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тал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раутери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рвн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зитивн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елациј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гнитив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шти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итаминско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инерални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0" y="1197000"/>
            <a:ext cx="86979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енералн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д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ванич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ијениј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емљ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ск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штој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лациј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адем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адај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о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ч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тегор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од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зумира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кохол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ува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г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иместр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дећ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вожђе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6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нк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ла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300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кар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25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5 μ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56360" y="37735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411280" y="4076640"/>
            <a:ext cx="20019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 rot="16200000">
            <a:off x="324000" y="84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е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жишт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ступљен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с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н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ењ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лациј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у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ра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инеколог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ег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ларн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ака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итањ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равданос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езбедност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енералн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д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ванич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ијениј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емљам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ск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штој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лац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ич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дравствен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шти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2004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л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ин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нирањ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а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12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дикован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ск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ЕДУКЦИОНИХ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ИЈЕТА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ОЈАЗ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 rot="16200000">
            <a:off x="456840" y="264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нералн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т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пар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200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, Mg, Zn, K, J, Se, 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, E, C, B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пле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ГЕТЕРИЈАНСК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волактовегетаријанц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а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извод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ед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с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животињ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иб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лувегетаријанц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извод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а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живинск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с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иб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актовегетаријанц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извод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животињског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рекл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леко 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лечн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извод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вовегетаријанц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животињских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извод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а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рутан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оћ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еган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мирниц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иљног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рек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УПЛЕМЕНТАЦИЈ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B12, Fe, Ca, Zn, витамин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себан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Нутритивне</a:t>
            </a:r>
            <a:r>
              <a:rPr b="1" lang="pl-P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биолошки</a:t>
            </a: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активне</a:t>
            </a: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компоненте</a:t>
            </a: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повољним</a:t>
            </a: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ефектом</a:t>
            </a: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Verdana"/>
              </a:rPr>
              <a:t>К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 rot="16200000">
            <a:off x="4568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Међу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нутритивним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биолошким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активним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компонентама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посебног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значаја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Макронутријенти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мег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-3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масне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киселине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гам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линоленск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киселин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протеин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Есенцијелни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микронутријенти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витамин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минерална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матер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есенцијелне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нутритивне</a:t>
            </a:r>
            <a:r>
              <a:rPr b="0" lang="sr-Latn-C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Verdana"/>
              </a:rPr>
              <a:t>компонен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олигосахариди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900" spc="-1" strike="noStrike">
                <a:solidFill>
                  <a:srgbClr val="000000"/>
                </a:solidFill>
                <a:latin typeface="Verdana"/>
              </a:rPr>
              <a:t>влак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Омег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3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масн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кисел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Међу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најбоље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проучаваним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ефектим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Златн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тандар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уплементациј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0000"/>
                </a:solidFill>
                <a:latin typeface="Verdana"/>
              </a:rPr>
              <a:t>1 </a:t>
            </a:r>
            <a:r>
              <a:rPr b="0" lang="en-US" sz="29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sr-Latn-CS" sz="2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ff0000"/>
                </a:solidFill>
                <a:latin typeface="Verdana"/>
              </a:rPr>
              <a:t>превентив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комбинацији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статинима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особа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прележале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инфаркта миокарда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доводе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sr-Latn-C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900" spc="-1" strike="noStrike" u="sng">
                <a:solidFill>
                  <a:srgbClr val="000000"/>
                </a:solidFill>
                <a:uFillTx/>
                <a:latin typeface="Verdana"/>
              </a:rPr>
              <a:t>значајног</a:t>
            </a:r>
            <a:r>
              <a:rPr b="0" lang="sr-Latn-C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900" spc="-1" strike="noStrike" u="sng">
                <a:solidFill>
                  <a:srgbClr val="000000"/>
                </a:solidFill>
                <a:uFillTx/>
                <a:latin typeface="Verdana"/>
              </a:rPr>
              <a:t>побољшања</a:t>
            </a:r>
            <a:r>
              <a:rPr b="0" lang="sr-Latn-C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900" spc="-1" strike="noStrike" u="sng">
                <a:solidFill>
                  <a:srgbClr val="000000"/>
                </a:solidFill>
                <a:uFillTx/>
                <a:latin typeface="Verdana"/>
              </a:rPr>
              <a:t>опорав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214960" y="1071720"/>
            <a:ext cx="3033720" cy="2176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4284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RS" sz="3600" spc="-1" strike="noStrike">
                <a:solidFill>
                  <a:srgbClr val="000000"/>
                </a:solidFill>
                <a:latin typeface="Verdana"/>
              </a:rPr>
              <a:t>Препоруке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-3 </a:t>
            </a:r>
            <a:r>
              <a:rPr b="1" lang="sr-RS" sz="3600" spc="-1" strike="noStrike">
                <a:solidFill>
                  <a:srgbClr val="000000"/>
                </a:solidFill>
                <a:latin typeface="Verdana"/>
              </a:rPr>
              <a:t>МК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 rot="16200000">
            <a:off x="50004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б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б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апсул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р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б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бо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ацијент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В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 –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нев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ацијент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ипертриглицеридем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 – 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нев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5 – 40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пору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мањ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з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б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огат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3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ос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у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ард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x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дељно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 rot="16200000">
            <a:off x="428760" y="11732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линолна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унцокретов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кукурузн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ојин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бундевин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алфа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линоленска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ланен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ојин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љ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језграстог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во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H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масн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морск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ри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ω-3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ω-6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МК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нижава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ЛДЛ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холестер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ω-3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МК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значај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регулисањ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ниво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триглицерид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мањењ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агрегациј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тромбоцит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мањењ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вазоконстрикциј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вентрикуларних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аритмиј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репорук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већ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нос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масн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морск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риб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цеђеног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биљног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љ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језграстог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воћ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емен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 rot="16200000">
            <a:off x="428760" y="42876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Verdana"/>
              </a:rPr>
              <a:t>Дијетарни</a:t>
            </a:r>
            <a:r>
              <a:rPr b="1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Verdana"/>
              </a:rPr>
              <a:t>извор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475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Антиоксидантни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витамини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минер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16200000">
            <a:off x="457200" y="150012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Оксидативн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стрес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једа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од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узрочник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атеросклеротских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Вит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вит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селен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матра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најважнији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риродни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антиоксидансим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идемиолошк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одац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одржава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концепт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дијетарн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антиоксиданс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преч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оксидаци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липопротеинских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честиц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мањ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ризик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атеросклер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 rot="16200000"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декватн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новрсн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рмалним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колностим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езбед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анљив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стојк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ребн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ржавањ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тановљен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шт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хваћеним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ндарди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не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удије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азују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адним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емљама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ређени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цити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фицити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алансиран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них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единим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утритијентима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шћ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71680" y="18572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омоцисте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357880" y="1928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Метион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971800" y="2971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Фол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57200" y="3886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теросклер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666880" y="15238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Метион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интета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2786040" y="207180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1500120" y="2643120"/>
            <a:ext cx="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929040" y="2357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25"/>
          <p:cNvSpPr/>
          <p:nvPr/>
        </p:nvSpPr>
        <p:spPr>
          <a:xfrm>
            <a:off x="2786040" y="2857680"/>
            <a:ext cx="2500200" cy="518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Витамин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6,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фолна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кис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684360" y="4581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лог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етаболизм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омоцистеи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матр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једни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фактор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риз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Витамин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Св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виш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доказ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говор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прилог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дефицит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витамин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вези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повећаном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инциденцом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К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30-50 %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популације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дефицит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епидемија</a:t>
            </a: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Независан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механизам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деловањ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Verdana"/>
              </a:rPr>
              <a:t>хипертенз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Минералне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мате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Калцијум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калијум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Verdana"/>
              </a:rPr>
              <a:t>магнезијум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нижава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крвн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 rot="16200000">
            <a:off x="457200" y="2746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Протеини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соје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 rot="16200000">
            <a:off x="468360" y="1268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оказа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игнификант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корелациј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овећаног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нос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ој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храном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нижењ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ниво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холестерол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ример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азијск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опул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Азијат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унос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50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ут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соје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Европљ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Мет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анали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38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контролисаних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клиничких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студиј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показал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д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дневн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унос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сој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од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31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до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47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Verdana"/>
              </a:rPr>
              <a:t>редуку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куп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олестерол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9,3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ЛДЛ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олестерол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2,9 %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риглицерид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0,5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ДЛ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олестеро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и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значај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-1713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Дијетна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влакна</a:t>
            </a:r>
            <a:r>
              <a:rPr b="1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 rot="16200000">
            <a:off x="178920" y="709200"/>
            <a:ext cx="87854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езултат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проведених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оказуј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створљи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влак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нижавај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купн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ЛДЛ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холестерол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лазм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порук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З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невн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нос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створљивих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влака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буд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16-24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не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β-</a:t>
            </a:r>
            <a:r>
              <a:rPr b="1" lang="sr-RS" sz="1800" spc="-1" strike="noStrike">
                <a:solidFill>
                  <a:srgbClr val="000000"/>
                </a:solidFill>
                <a:latin typeface="Verdana"/>
              </a:rPr>
              <a:t>глук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ајвиш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оучаван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створм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влакн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β-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глукан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в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м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ногобројн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вољн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ефект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људск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здрав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тврђен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тич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ерумск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холесте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Хемијск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едстављ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линерн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високо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олекулск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лисахарид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створан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во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ФД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1997.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обрил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ледећ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здравствен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зјав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роизвод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нтегралног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овс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„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Исхрана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са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високим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садржајем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овсених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мекиња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а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ниским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садржајем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засићених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масти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холестерола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може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да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смањи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ризик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од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исхемијске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болести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c00000"/>
                </a:solidFill>
                <a:latin typeface="Verdana"/>
              </a:rPr>
              <a:t>срца</a:t>
            </a:r>
            <a:r>
              <a:rPr b="0" lang="sr-Latn-CS" sz="1800" spc="-1" strike="noStrike">
                <a:solidFill>
                  <a:srgbClr val="c00000"/>
                </a:solidFill>
                <a:latin typeface="Verdan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вољн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ефект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спољав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β-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глукан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повећа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елиминациј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жучних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кисели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терол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смањен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апсорпциј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маст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хране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убрзани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катаболизам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ЛДЛ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холестерола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Verdana"/>
              </a:rPr>
              <a:t>Фитостер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50920" y="1484280"/>
            <a:ext cx="842472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иљ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ерол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танол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нижав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лаз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купан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ЛДЛ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олестерол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нтерфер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апсорпци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олестер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бр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дно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гућ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нтерференц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липосолубилни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итамин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а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имењу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ећи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за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гућ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збећ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схрано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овећани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адржаје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вих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утри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количи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2-3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Verdana"/>
              </a:rPr>
              <a:t>дневно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смањит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ЛДЛ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холестеро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5 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ели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бро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произво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тржишт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ероли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биљног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порекла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труктурно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слични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</a:rPr>
              <a:t>холестерол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Calibri"/>
              </a:rPr>
              <a:t>β-</a:t>
            </a:r>
            <a:r>
              <a:rPr b="0" lang="sr-RS" sz="1600" spc="-1" strike="noStrike">
                <a:solidFill>
                  <a:srgbClr val="000000"/>
                </a:solidFill>
                <a:latin typeface="Verdana"/>
                <a:ea typeface="Calibri"/>
              </a:rPr>
              <a:t>ситостер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  <a:ea typeface="Calibri"/>
              </a:rPr>
              <a:t>Кампестер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  <a:ea typeface="Calibri"/>
              </a:rPr>
              <a:t>стигмастерол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Verdana"/>
                <a:ea typeface="Calibri"/>
              </a:rPr>
              <a:t>брасикастер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 rot="16200000"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91919"/>
                </a:solidFill>
                <a:latin typeface="Verdana"/>
              </a:rPr>
              <a:t>Коензим</a:t>
            </a:r>
            <a:r>
              <a:rPr b="1" lang="en-US" sz="4400" spc="-1" strike="noStrike">
                <a:solidFill>
                  <a:srgbClr val="191919"/>
                </a:solidFill>
                <a:latin typeface="Verdana"/>
              </a:rPr>
              <a:t>  Q</a:t>
            </a:r>
            <a:r>
              <a:rPr b="1" lang="en-US" sz="4000" spc="-1" strike="noStrike" baseline="-25000">
                <a:solidFill>
                  <a:srgbClr val="191919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 rot="16200000">
            <a:off x="213840" y="1571760"/>
            <a:ext cx="84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Антиоксидант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липидн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фаз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коензи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респираторном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ланцу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Нивои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серум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опадај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годинам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нижи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оксидативном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стрес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хипертензиј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Суплементирањ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току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4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недељ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смањењ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крвног прит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Просеч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редукциј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/10 mm H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Уобичаје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орал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при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g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Verdana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478560" y="5202360"/>
            <a:ext cx="2665440" cy="1655640"/>
            <a:chOff x="6478560" y="5202360"/>
            <a:chExt cx="2665440" cy="1655640"/>
          </a:xfrm>
        </p:grpSpPr>
        <p:sp>
          <p:nvSpPr>
            <p:cNvPr id="181" name="Oval 6"/>
            <p:cNvSpPr/>
            <p:nvPr/>
          </p:nvSpPr>
          <p:spPr>
            <a:xfrm>
              <a:off x="6478560" y="5416560"/>
              <a:ext cx="1776240" cy="1441440"/>
            </a:xfrm>
            <a:prstGeom prst="ellipse">
              <a:avLst/>
            </a:prstGeom>
            <a:solidFill>
              <a:srgbClr val="4f81bd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val 7"/>
            <p:cNvSpPr/>
            <p:nvPr/>
          </p:nvSpPr>
          <p:spPr>
            <a:xfrm>
              <a:off x="7478640" y="5202360"/>
              <a:ext cx="1665360" cy="1122480"/>
            </a:xfrm>
            <a:prstGeom prst="ellipse">
              <a:avLst/>
            </a:prstGeom>
            <a:solidFill>
              <a:srgbClr val="9933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3" name="Picture 8" descr="coe_0084"/>
            <p:cNvPicPr/>
            <p:nvPr/>
          </p:nvPicPr>
          <p:blipFill>
            <a:blip r:embed="rId1"/>
            <a:stretch/>
          </p:blipFill>
          <p:spPr>
            <a:xfrm>
              <a:off x="6534000" y="5310360"/>
              <a:ext cx="2497320" cy="150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1746"/>
                </a:solidFill>
                <a:latin typeface="Verdana"/>
              </a:rPr>
              <a:t>Дијетарне</a:t>
            </a:r>
            <a:r>
              <a:rPr b="1" lang="sr-Latn-CS" sz="4400" spc="-1" strike="noStrike">
                <a:solidFill>
                  <a:srgbClr val="001746"/>
                </a:solidFill>
                <a:latin typeface="Verdana"/>
              </a:rPr>
              <a:t> </a:t>
            </a:r>
            <a:r>
              <a:rPr b="1" lang="sr-RS" sz="4400" spc="-1" strike="noStrike">
                <a:solidFill>
                  <a:srgbClr val="001746"/>
                </a:solidFill>
                <a:latin typeface="Verdana"/>
              </a:rPr>
              <a:t>интерв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 rot="16200000">
            <a:off x="456840" y="2231640"/>
            <a:ext cx="822960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Адекватно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балансирањ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нутриј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Престанак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конзумирањ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одређен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врст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х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Повећати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унос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фортификованих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намир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Унос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дијететских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Verdana"/>
              </a:rPr>
              <a:t>суплем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Verdana"/>
              </a:rPr>
              <a:t>Суплементација код К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Content Placeholder 4" descr=""/>
          <p:cNvPicPr/>
          <p:nvPr/>
        </p:nvPicPr>
        <p:blipFill>
          <a:blip r:embed="rId1"/>
          <a:stretch/>
        </p:blipFill>
        <p:spPr>
          <a:xfrm>
            <a:off x="1857240" y="2000160"/>
            <a:ext cx="5900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91404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отерапија и дијетопрофилакса дијабетеса мелитуса типа 2</a:t>
            </a: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к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90400" y="235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Т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о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о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ем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ча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4 g/1000 kc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кн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 rot="16200000">
            <a:off x="91404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к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 rot="16200000"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гликемијс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њ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ор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емиј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о имуномодулатор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ја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венциј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едећих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васкуларн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јаз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рњег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спираторног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гестивног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а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ун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00000" y="1916280"/>
            <a:ext cx="7559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539640" y="201600"/>
            <a:ext cx="820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рне интервенције у  превенцији дијабет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1268280"/>
          <a:ext cx="8206920" cy="4980240"/>
        </p:xfrm>
        <a:graphic>
          <a:graphicData uri="http://schemas.openxmlformats.org/drawingml/2006/table">
            <a:tbl>
              <a:tblPr/>
              <a:tblGrid>
                <a:gridCol w="1961280"/>
                <a:gridCol w="2470680"/>
                <a:gridCol w="3774960"/>
              </a:tblGrid>
              <a:tr h="681120"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нутриј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бичајна суплементирана д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јалани ефе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µg/2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оглик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-karni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-100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ација масних кис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с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ит C, E, Z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те комбинације и до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тивна заштита у превенцији дијабетесне ретинопа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.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µ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инсулинске резистен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 µ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но функционисање тироидне жлез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ɑ-липонска ки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 mg/2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360" rIns="90360" tIns="46440" bIns="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лизација инсулинске резистенције, неуропатије, антиоксида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360" marR="903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 rot="16200000"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5840" y="1557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тив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лац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тив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ено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ова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лементациј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јбољ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т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84360" y="6308640"/>
            <a:ext cx="68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 rot="16200000"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урсо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икозанои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ам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р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тами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ањењ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ламаци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поинсулинемијск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ек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р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ч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 rot="16200000"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онутријен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43040" y="1785960"/>
          <a:ext cx="5746680" cy="4649760"/>
        </p:xfrm>
        <a:graphic>
          <a:graphicData uri="http://schemas.openxmlformats.org/drawingml/2006/table">
            <a:tbl>
              <a:tblPr/>
              <a:tblGrid>
                <a:gridCol w="1965240"/>
                <a:gridCol w="37814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нутријен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јални ефе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ерцет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ће, поврће, житар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огликемија, антиатерогени ефе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цијанидини-биљни пигмен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оглик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фенолске супстанце из ци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огликем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ва инсулинску осетљив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феноли зеленог ч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 амилаз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ују постпрандијални ниво глукоз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р успоравају дигестију скр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 rot="16200000">
            <a:off x="826560" y="274680"/>
            <a:ext cx="7859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Дијетарн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нтервенциј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на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нивоу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нтеракциј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хран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дређених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лекова</a:t>
            </a:r>
            <a:r>
              <a:rPr b="0" lang="en-US" sz="36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 rot="16200000"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форм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цисте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ject 4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Дијетарн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нтервенциј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на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нивоу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нтеракциј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хране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дређених</a:t>
            </a:r>
            <a:r>
              <a:rPr b="1" lang="en-U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Током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терапије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ралним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антидијабетицима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презно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дијететским</a:t>
            </a:r>
            <a:r>
              <a:rPr b="0" lang="sr-Latn-C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суплементима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алфа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липонске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хр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гинсе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белог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л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адитивни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ефека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ризик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хипогликемије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АРЦИНОМ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БЕЛОГ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ЦР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ЛЦ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,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бет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каротен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и дијететских препарата на тржишту Срб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тивитам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610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амин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антотенат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лна кис. + никотинам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kovi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t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rka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бложена табл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амин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 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ниацин + пантотенска кис.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алцијум + молибден + хром + флуорид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манган + бакар + цинк + магнезијум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гвожђе + ј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ligovit, Galenika,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филм таб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: стања исцрпљености, физичког напора, дијета, једнолична исхрана, смањен апетит, терапија антибиотицима широког спект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Резултат слика за Pikovit forte,"/>
          <p:cNvPicPr/>
          <p:nvPr/>
        </p:nvPicPr>
        <p:blipFill>
          <a:blip r:embed="rId1"/>
          <a:stretch/>
        </p:blipFill>
        <p:spPr>
          <a:xfrm>
            <a:off x="586728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Резултат слика за oligovit"/>
          <p:cNvPicPr/>
          <p:nvPr/>
        </p:nvPicPr>
        <p:blipFill>
          <a:blip r:embed="rId2"/>
          <a:stretch/>
        </p:blipFill>
        <p:spPr>
          <a:xfrm>
            <a:off x="6019920" y="3809880"/>
            <a:ext cx="25812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тивитамин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тивитамини са минерал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антотенат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отин + фолна кис. + никотинамид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nata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tendor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rma филм таб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 спречавање или лечење поремећаја насталих услед недостатка витамина и минерала у исхрани током периода трудноће или дојењ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Резултат слика за Elevit pronatal,"/>
          <p:cNvPicPr/>
          <p:nvPr/>
        </p:nvPicPr>
        <p:blipFill>
          <a:blip r:embed="rId1"/>
          <a:stretch/>
        </p:blipFill>
        <p:spPr>
          <a:xfrm>
            <a:off x="6477120" y="1447920"/>
            <a:ext cx="26668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етопрофилакса- Период новорођенчета и одојч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 rot="16200000"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 К-раствор за ињекциј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g/0,2 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а новорођенчад са 36 недеља гестације или стариј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mg интрамускуларном ињекцијом на рођењу или убрзо по рођењ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ца која се хране искључиво дојењем и која су на рођењу примила Конакион: Уз дозе на рођењу и после 4-7 дана, треба дати и трећу дозу од 2 mg орално месец дана по рођењу. Саветује се да се даје још по 2 mg месечно у виду појединачне оралне дозе све док се не пређе на млеко у прах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олна кис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na 400, Galenika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филм таб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Д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плементација исхране жена које планирају трудноћ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циљу превенције поремећаја у затварању неуралне цеви плода и појаве спине бифид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 одојча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Резултат слика за folna 400"/>
          <p:cNvPicPr/>
          <p:nvPr/>
        </p:nvPicPr>
        <p:blipFill>
          <a:blip r:embed="rId1"/>
          <a:stretch/>
        </p:blipFill>
        <p:spPr>
          <a:xfrm>
            <a:off x="548640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олна кисе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nak, M.D. N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таб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Д терапија 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мија, проузрокованих недостатком фолне киселине услед слабе исхране, лоше ресорпције хране (као код целијачне болести или поремећаја варења званог „спру“) или повећаних потреба организма (као у трудноћ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Резултат слика за folnak"/>
          <p:cNvPicPr/>
          <p:nvPr/>
        </p:nvPicPr>
        <p:blipFill>
          <a:blip r:embed="rId1"/>
          <a:stretch/>
        </p:blipFill>
        <p:spPr>
          <a:xfrm>
            <a:off x="6019920" y="838080"/>
            <a:ext cx="1981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и А и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у комбинациј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тинол + ергокалциферол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холекалциферол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 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mofar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алне кап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 профилакса и терапија рахитиса, поремећаји раста и окоштавања, профилакса код недоношчади и деце на вештачкој исхрани, остеомалација, сметње у развоју зуб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Резултат слика за Витамин АD,Hemofarm,"/>
          <p:cNvPicPr/>
          <p:nvPr/>
        </p:nvPicPr>
        <p:blipFill>
          <a:blip r:embed="rId1"/>
          <a:stretch/>
        </p:blipFill>
        <p:spPr>
          <a:xfrm>
            <a:off x="5943600" y="838080"/>
            <a:ext cx="27496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налози (алфакалцидол, холекалциферол, калцитрио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алфакалциди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ph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harmachemi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апс. ме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ph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va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апс. ме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алцитри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caltrol, Roche, капс. ме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олекалцифер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igantol, Merck оралне капи,раствор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 профилакса рахитиса, витами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висни рахитис, остеомалација, (остеопороза - алфакалцидол, холекалциферол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5" descr="Резултат слика за Alpha D3, Teva, капс. мека"/>
          <p:cNvPicPr/>
          <p:nvPr/>
        </p:nvPicPr>
        <p:blipFill>
          <a:blip r:embed="rId1"/>
          <a:stretch/>
        </p:blipFill>
        <p:spPr>
          <a:xfrm>
            <a:off x="4419720" y="1523880"/>
            <a:ext cx="2324160" cy="1851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Сродна слика"/>
          <p:cNvPicPr/>
          <p:nvPr/>
        </p:nvPicPr>
        <p:blipFill>
          <a:blip r:embed="rId2"/>
          <a:stretch/>
        </p:blipFill>
        <p:spPr>
          <a:xfrm>
            <a:off x="7620120" y="1371600"/>
            <a:ext cx="9302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у комбинацији са витамин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нфотиамин + пиридокс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lgam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0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wag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жена таб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 дефицит витами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ка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ица дијете, малабсорпције и потхрањености, превенција полинеуропатије код хроничне примене изонијаз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Резултат слика за Milgamma 100, Worwag обложена табл."/>
          <p:cNvPicPr/>
          <p:nvPr/>
        </p:nvPicPr>
        <p:blipFill>
          <a:blip r:embed="rId1"/>
          <a:stretch/>
        </p:blipFill>
        <p:spPr>
          <a:xfrm>
            <a:off x="6600960" y="838080"/>
            <a:ext cx="25430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тамини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пантотенат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k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жена таб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 тежи облици недостатка витам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тпуна парентерална исхрана, последице хроничног алкохолизма, полинеуритис и исхиал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5" descr="Резултат слика за B Complex, Krka обложена табл."/>
          <p:cNvPicPr/>
          <p:nvPr/>
        </p:nvPicPr>
        <p:blipFill>
          <a:blip r:embed="rId1"/>
          <a:stretch/>
        </p:blipFill>
        <p:spPr>
          <a:xfrm>
            <a:off x="6477120" y="152280"/>
            <a:ext cx="19843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ридоксин хлори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doxin, Galenik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аб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 дефицит витам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, неуритис код терапије изониазидом, пременструални синдро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5" descr="C:\Users\Jelena\Desktop\download.jpg"/>
          <p:cNvPicPr/>
          <p:nvPr/>
        </p:nvPicPr>
        <p:blipFill>
          <a:blip r:embed="rId1"/>
          <a:stretch/>
        </p:blipFill>
        <p:spPr>
          <a:xfrm>
            <a:off x="3048120" y="4267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скорбинска киселина (витам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монокомпонентн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скорбинска кисел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tami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lenik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аб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tamin C, Hemofarm шумећа таб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 скорбут и прескорбутна стања, повећана потреба з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тамином (гравидитет, лактација, инфективне болести, реконвалесценција, малигнитет), као додатак оралној примени гвожђ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9" descr="Резултат слика за Vitamin C, Galenika табл."/>
          <p:cNvPicPr/>
          <p:nvPr/>
        </p:nvPicPr>
        <p:blipFill>
          <a:blip r:embed="rId1"/>
          <a:stretch/>
        </p:blipFill>
        <p:spPr>
          <a:xfrm>
            <a:off x="7543800" y="1143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Резултат слика за Vitamin C, Hemofarm шумећа табл"/>
          <p:cNvPicPr/>
          <p:nvPr/>
        </p:nvPicPr>
        <p:blipFill>
          <a:blip r:embed="rId2"/>
          <a:stretch/>
        </p:blipFill>
        <p:spPr>
          <a:xfrm>
            <a:off x="5638680" y="838080"/>
            <a:ext cx="179100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цијум пантотена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 авитаминозе и хиповитаминозе пантотенске киселине, запаљење ларинкса и фаринкса, стоматитис афтоза,глосит, ране после екстракције з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theno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mofa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зенг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Резултат слика за Panthenol, Hemofarm лозенга"/>
          <p:cNvPicPr/>
          <p:nvPr/>
        </p:nvPicPr>
        <p:blipFill>
          <a:blip r:embed="rId1"/>
          <a:stretch/>
        </p:blipFill>
        <p:spPr>
          <a:xfrm>
            <a:off x="5638680" y="3886200"/>
            <a:ext cx="3505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алцијум карбонат + холекалциферо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deoss, Hermes табл. за жвакањ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tadona, Hermes табл. за жвак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os, Innothera Chouzy табл. за жвак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Д корекција дефицита витамина D и калцијума, 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вантна терапија остеопороз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C:\Users\Higijena Asistenti\Desktop\Caldeoss-kutija.png"/>
          <p:cNvPicPr/>
          <p:nvPr/>
        </p:nvPicPr>
        <p:blipFill>
          <a:blip r:embed="rId1"/>
          <a:stretch/>
        </p:blipFill>
        <p:spPr>
          <a:xfrm>
            <a:off x="6172200" y="914400"/>
            <a:ext cx="2286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итамини А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-НЕКАД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И К-С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 rot="16200000">
            <a:off x="179280" y="1600200"/>
            <a:ext cx="8785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рална употре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ПУНСК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ТРИТИВ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Р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0-400 mg витамина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-30 mg витамина 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400 I.J витамина 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ОЈЧЕ МОРА СВАКОДНЕВНО ДА УНОС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А ДОЗА НЕ МОЖЕ ДА БУДЕ ШТЕТНА ЧАК ИАКО СЕ ИЗЛАЖЕ СУНЦ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ОЈЧЕ НА АДАПТИРАНОЈ ФОРМУЛИ НЕ ЗАХТЕВ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ДАТНИ УНОС ВИТ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ight Brace 3"/>
          <p:cNvSpPr/>
          <p:nvPr/>
        </p:nvSpPr>
        <p:spPr>
          <a:xfrm>
            <a:off x="3708360" y="2637000"/>
            <a:ext cx="360360" cy="1152360"/>
          </a:xfrm>
          <a:custGeom>
            <a:avLst/>
            <a:gdLst>
              <a:gd name="textAreaLeft" fmla="*/ 0 w 360360"/>
              <a:gd name="textAreaRight" fmla="*/ 129960 w 360360"/>
              <a:gd name="textAreaTop" fmla="*/ 6480 h 1152360"/>
              <a:gd name="textAreaBottom" fmla="*/ 1145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16200" y="10800"/>
                  <a:pt x="21600" y="10800"/>
                </a:cubicBezTo>
                <a:cubicBezTo>
                  <a:pt x="162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4500720" y="2852640"/>
            <a:ext cx="3816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ИРОДНА ИСХР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ОЈ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126072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л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лијум хлор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lorid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far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ални прашак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Д хипокалијемија услед смањене ресорпције калијума из дигестивног тракта, после дуготрајних дијареја, повраћања и губитка крви, обољења јетре, инсуфицијенције срца, у току примене гликозида дигиталиса, диуретика или кортикостеро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5" descr="Резултат слика за Kalii Chloridi, Ufar"/>
          <p:cNvPicPr/>
          <p:nvPr/>
        </p:nvPicPr>
        <p:blipFill>
          <a:blip r:embed="rId1"/>
          <a:stretch/>
        </p:blipFill>
        <p:spPr>
          <a:xfrm>
            <a:off x="3657600" y="3124080"/>
            <a:ext cx="2620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Гвожђ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I)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глукон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бакар-глукон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анган-глукон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’Hema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thera Chouzy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орални раство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Д 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мија (малокрвност) услед недостатка гвожђ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вентивна надокнада гвожђа у трудноћи, код превремено рођене деце, близанаца или новоронђенчад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је су мајке имале недостатак гвожђа, када дијета није садржала довољне количине гвожђ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vožđe(II)-sulfat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ro-gradumet, Galenika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аб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7" descr="Резултат слика за tothema ampule"/>
          <p:cNvPicPr/>
          <p:nvPr/>
        </p:nvPicPr>
        <p:blipFill>
          <a:blip r:embed="rId1"/>
          <a:stretch/>
        </p:blipFill>
        <p:spPr>
          <a:xfrm>
            <a:off x="6629400" y="152280"/>
            <a:ext cx="1671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ијетопрофилакса и дијетотерапија у стар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ећане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алц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4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12 –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мањене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нергетске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43640" y="1844640"/>
            <a:ext cx="18734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уплементација минералних материја у стар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лц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гнез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и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ле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ПОТРЕБА ОМЕГА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-3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АСНИХ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У СТАР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 rot="16200000">
            <a:off x="323640" y="105228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ЛОГ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итромбоге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иатерогено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иинфламато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иаритмоге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нижава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ољан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мун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ког система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УОБИЧАЈЕНИ ПРЕПАРА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1g рибљег уља /120 mg ЕPA и 180 mg DH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Терапијске доз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1-1,5 g/дан за дијетотерапију повишеног крвног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2-4 g/дан за дијетотерапију хипертриглицеридем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2,2 g/дан за дијетотерапију реуматоидног артрити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20:40:50Z</dcterms:created>
  <dc:creator>Nela</dc:creator>
  <dc:description/>
  <cp:keywords/>
  <dc:language>en-US</dc:language>
  <cp:lastModifiedBy>jelena stajic</cp:lastModifiedBy>
  <dcterms:modified xsi:type="dcterms:W3CDTF">2021-01-25T10:35:27Z</dcterms:modified>
  <cp:revision>60</cp:revision>
  <dc:subject/>
  <dc:title>НУТРИТИВНИ СУПЛЕМЕНТИ</dc:title>
</cp:coreProperties>
</file>